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DDD-6E7A-4930-A3F0-3FDB9508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305-5AD5-4F2B-8060-EDB25E90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63F-1C51-47A6-B720-88B33863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DBE-BDC6-400D-8B32-C0A195E3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2AC-F5A7-45D5-8B62-706DD937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A48-D0CE-43DB-BC21-9445B819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3DC-98C7-420C-B5AC-297C4AE5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D7D-E178-4D6D-81D9-73076916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5B8-F72C-4B6C-8DCE-55851838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12C-4B06-48D6-8E7A-96B26141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B01-54AA-48FA-B056-250C0301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D9A-CEB6-4827-BFBE-6EC8278E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2D9D-F3AE-484A-A7AA-4619676BB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de_004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de_005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Untitled-1.psd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ide_007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lide_008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ide_009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de_002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1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lide_010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3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ide_012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4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5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_003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Untitled-1.psd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lide_013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lide_014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lide_016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lide_017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lide_018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7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8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0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1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21:57:47Z</dcterms:created>
  <dc:creator>Гнатюк Виктор Иванович</dc:creator>
  <dc:description/>
  <dc:language>en-US</dc:language>
  <cp:lastModifiedBy>Гнатюк Виктор Иванович</cp:lastModifiedBy>
  <dcterms:modified xsi:type="dcterms:W3CDTF">2008-11-22T14:54:41Z</dcterms:modified>
  <cp:revision>26</cp:revision>
  <dc:subject/>
  <dc:title>Презентация</dc:title>
</cp:coreProperties>
</file>